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CBB1-8357-499A-B53E-62F7CE246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346-F9F2-4A29-922F-6DBD7A9F3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6C6-357A-4272-B512-E33517CA5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2F0-AC45-414A-BA10-F4667D71F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C26-D424-4F92-AC1F-8FC6E9845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53ED-D49A-49DE-9B7C-81638EB2C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2FD-9E42-46E1-B411-891797C57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2078-5FA0-4293-A489-860B41ADD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D9C-4E56-4FDD-9FA9-6AAE72D0F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89B-6911-4F96-93CD-B5DE9A4B5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632-5FAF-4658-8ADE-E7F8ABC0B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395-C75D-4846-95DD-FCCB5C63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60F-C74F-42EC-929F-0FB95710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55E-5BB0-4666-B03D-9B6390FC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787-0352-45AD-A567-7474DA02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0A7-7290-40F7-ACE7-2BF5958F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36AB-5D84-462B-8974-81459A2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505-0D5F-4060-A3A8-0ABCDFB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393-AC79-49D9-8224-F3D031E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397-E0B4-4DAB-BC34-E4F41C91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3D8-9E7E-4DAE-8A99-32501705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B8F-96AA-4324-BF87-2348F95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102-3E7E-42A0-AE15-4D5DEEC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45EA-19E5-4069-AC22-06AACED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A698-31A8-4354-BEF1-5846ECB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66CD-E8FB-4EFC-A819-860D4679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11AF-8B00-45E0-8F28-2934FD63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882-0648-4A95-9B08-4811DC5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636B-8D90-4D72-8F84-63EE5498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3780-8BAE-4380-B76B-DF97B64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506D-0C3E-4AD7-B04A-B5FFE99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5723-2A6A-4137-9553-B3C2D31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535D-76A7-4097-8D3E-69ED278F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00B-254D-4A66-BAB1-78A0C13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64D6-0782-4A57-9BA9-184A0BD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B24B-9E51-41A3-90B3-1304556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7936-ACF2-49C2-BACE-817C13B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619E-88D3-461A-993B-A4FFB7E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E141-A8B6-4596-9926-8DB8ADD5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B5E5-3847-4F02-A9A1-BD7C0C9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B628-3EC3-43B4-AC11-BB0EB685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904D-F023-48D9-95B6-C90D9B59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D7FE-871E-4EB6-BE6E-A7D5C1E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2850-E2E5-47AC-8F0F-418C4DE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13C-D6FE-41F7-9798-D9067326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6F0E-2DFF-4F27-87C0-12F2458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89F2-65EF-4F7E-A1C4-D4C4E02B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3D04-559C-4B51-8405-4C3F66F1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4541-182E-4D26-ABF9-AD6863C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028F-DAC1-4888-A26A-F23FD34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A5D4-F05B-414F-B23B-D954EC9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EF91-D26C-422F-BA36-0DA1C18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2E65-B679-4B56-824D-0CB90B69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A1B1-F623-4B74-A887-ED7A1056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C34C-048F-44F1-8B97-1D84039E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E14-C336-4E4C-8C4B-F763EC7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A004-8199-42BC-AD40-A8B0469C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27EC-B2D2-4935-86A3-0251B8B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1868-F7C7-45D9-8E3B-D4F3035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080A-95E6-462E-B8A1-8DD3CA32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E98E-9C36-4298-BE16-5EFCD7C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B3CB-4B62-4D32-8044-DC7D0B0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55EC-41C7-4B77-BEAE-C947293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61B7-A4C9-4209-BC5F-E3C996D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CB92-8067-4D98-A00D-375DDB5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7D4B-4C28-4AFD-9BCA-13B11DDB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9CF-B273-4E6F-82C8-D0F4ACC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670B-608C-482A-A27A-AD4ECFF0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074-ADDA-4D25-B57B-31F3B4A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31E-B4B0-44E8-B5B4-98CB68A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F6F-CD3A-4AC3-991D-B0BB5B6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054-0ACA-4C41-B359-E9458B4F98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BB6-3784-44B3-B46A-0AAD90B8A8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6CE-FEE1-4E7A-8575-C830574642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A92-C7BC-4255-A7B0-4B64538F71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E4D-85D0-4160-B162-E943A3EC0A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ud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y : Scot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ocial Stud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3" descr="C:\Users\Melissa\Pictures\AOOW1K3CAE49ZD7CAW0YIOKCAVEPGPNCASL1TCYCASKNZSPCAN9D122CAVXO2A0CAXN50JHCAP1D710CA365QX0CABE3J8FCAIU4QELCAK1MWWZCAPOZL2MCAEH21MBCA6BL5H4CAHGUK8UCAON2N2U.jpg"/>
          <p:cNvPicPr/>
          <p:nvPr/>
        </p:nvPicPr>
        <p:blipFill>
          <a:blip r:embed="rId1"/>
          <a:stretch/>
        </p:blipFill>
        <p:spPr>
          <a:xfrm>
            <a:off x="2057400" y="3429000"/>
            <a:ext cx="5105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Future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hink the future of Sudan is going to be more civil war and agriculture will be the leading industry in Su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2" descr="C:\Users\Melissa\Pictures\AHFBDBRCA6VFULPCADSA1S3CA1E1N8DCAFK3N5BCAERLQCACAKY3LBFCAAZSVERCA7T9CYACA2MKI6RCASSKSLTCAC58JJZCATR5PLFCAPJJHZBCA82X722CAK5PW28CAX27E1KCA9TDHNGCAGR2DZ5.jpg"/>
          <p:cNvPicPr/>
          <p:nvPr/>
        </p:nvPicPr>
        <p:blipFill>
          <a:blip r:embed="rId1"/>
          <a:stretch/>
        </p:blipFill>
        <p:spPr>
          <a:xfrm>
            <a:off x="4849920" y="2209680"/>
            <a:ext cx="398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Sudan is located near the north east of Afr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It Borders Chad, Egypt, Ethiopia, Eritrea, Libya, and the central African Republ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Capital is Khurto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Divided into north and sout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Users\Melissa\Pictures\A27QVRACA4UYW8QCAUVG8UHCAV2R3IRCA73JBISCAJLHYCSCAB5L9OFCA1Q7T9FCAZJTM3LCAF4RWK4CAFY6XQOCAUXEXDJCA8YRIA1CAMYVDZXCAQ3GCAPCAICQ3BRCA361D5LCA7OEF02CABL8FW2.jpg"/>
          <p:cNvPicPr/>
          <p:nvPr/>
        </p:nvPicPr>
        <p:blipFill>
          <a:blip r:embed="rId1"/>
          <a:stretch/>
        </p:blipFill>
        <p:spPr>
          <a:xfrm>
            <a:off x="457200" y="3505320"/>
            <a:ext cx="2986200" cy="3124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Users\Melissa\Pictures\A27QVRACA4UYW8QCAUVG8UHCAV2R3IRCA73JBISCAJLHYCSCAB5L9OFCA1Q7T9FCAZJTM3LCAF4RWK4CAFY6XQOCAUXEXDJCA8YRIA1CAMYVDZXCAQ3GCAPCAICQ3BRCA361D5LCA7OEF02CABL8FW2.jpg"/>
          <p:cNvPicPr/>
          <p:nvPr/>
        </p:nvPicPr>
        <p:blipFill>
          <a:blip r:embed="rId2"/>
          <a:stretch/>
        </p:blipFill>
        <p:spPr>
          <a:xfrm>
            <a:off x="5334120" y="3124080"/>
            <a:ext cx="260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Major Imports and Expor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orts are foodstuffs and textil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orts are cotton, peanut, cottonseed, sesame produ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4" descr="C:\Users\Melissa\Pictures\ALE141FCA60KV9MCAQXVXI5CAMPCX54CAS0EBU3CA0KO1E2CA8YGR6KCABT6BNNCA176BDBCAUE5IW2CAALHXB1CAOYMUCZCANNP1THCAE9ZFHSCA5M13DSCAQ1XNFDCA0TJ212CAXMMNLMCA7JAOY9.jpg"/>
          <p:cNvPicPr/>
          <p:nvPr/>
        </p:nvPicPr>
        <p:blipFill>
          <a:blip r:embed="rId1"/>
          <a:stretch/>
        </p:blipFill>
        <p:spPr>
          <a:xfrm>
            <a:off x="4952880" y="2286000"/>
            <a:ext cx="2457720" cy="1752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:\Users\Melissa\Pictures\ALIFF6YCA0CI94UCAY52CWOCACFWUMHCAL8A70ACAX3B31ECA6930GLCANAP75NCABR6SGSCAWA9WRECA70ZVEWCAZU513ZCAI91QVFCA53J5SPCAJSBS3DCAXOHYBLCA1JNZ3ECALT6GFUCAOJDP39.jpg"/>
          <p:cNvPicPr/>
          <p:nvPr/>
        </p:nvPicPr>
        <p:blipFill>
          <a:blip r:embed="rId2"/>
          <a:stretch/>
        </p:blipFill>
        <p:spPr>
          <a:xfrm>
            <a:off x="5105520" y="4267080"/>
            <a:ext cx="327636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Fast Fa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22093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pulation = 40,218,45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fe Expectancy = 50.28 yea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eracy = 61.1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cy = Sudanese pou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s = Sunni Muslim,  Christian, and indigenous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Melissa\Pictures\AOOW1K3CAE49ZD7CAW0YIOKCAVEPGPNCASL1TCYCASKNZSPCAN9D122CAVXO2A0CAXN50JHCAP1D710CA365QX0CABE3J8FCAIU4QELCAK1MWWZCAPOZL2MCAEH21MBCA6BL5H4CAHGUK8UCAON2N2U.jpg"/>
          <p:cNvPicPr/>
          <p:nvPr/>
        </p:nvPicPr>
        <p:blipFill>
          <a:blip r:embed="rId1"/>
          <a:stretch/>
        </p:blipFill>
        <p:spPr>
          <a:xfrm>
            <a:off x="5105520" y="2514600"/>
            <a:ext cx="312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360" y="2209320"/>
            <a:ext cx="373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Customary for wealthier  people to kill a sheep and give it to people less wealthi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ving the Ramadan feas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birthday of the prophet Muhammad is a children’s holi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elebrations are of Muslim belief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2" descr="C:\Users\Melissa\Pictures\ACQXEP8CA1HMREDCAOIX9CQCAN5RS7LCA1W13SMCAK67VDLCA8CW6AVCAN0DENHCAC7HK59CA09486WCA1RKXGWCAGVYKV8CAESX3UYCAMW2SAKCAUNHW7JCAIP9KIICATPB9EGCACRIHKVCAVOLLBJ.jpg"/>
          <p:cNvPicPr/>
          <p:nvPr/>
        </p:nvPicPr>
        <p:blipFill>
          <a:blip r:embed="rId1"/>
          <a:stretch/>
        </p:blipFill>
        <p:spPr>
          <a:xfrm>
            <a:off x="5105520" y="2590920"/>
            <a:ext cx="32763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Govern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tly is a military style government but is supposed to move to a presidential govern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untry divided into 26 states controlled by a govern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t president is Omer Hassan A. Al-Bash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2" descr="C:\Users\Melissa\Pictures\sbashir.gif"/>
          <p:cNvPicPr/>
          <p:nvPr/>
        </p:nvPicPr>
        <p:blipFill>
          <a:blip r:embed="rId1"/>
          <a:stretch/>
        </p:blipFill>
        <p:spPr>
          <a:xfrm>
            <a:off x="5029200" y="2362320"/>
            <a:ext cx="33526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civil W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roke out in 1983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rst Conflict ended in May 2004 then another war started between black muslim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placed over 4 million southern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2" descr="C:\Users\Melissa\Pictures\images.jpg"/>
          <p:cNvPicPr/>
          <p:nvPr/>
        </p:nvPicPr>
        <p:blipFill>
          <a:blip r:embed="rId1"/>
          <a:stretch/>
        </p:blipFill>
        <p:spPr>
          <a:xfrm>
            <a:off x="5184720" y="2286000"/>
            <a:ext cx="395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Independence d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anuary 1, 1948 declared independe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uly gained independence in 1956 from Egypt and Brit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9" name="Picture 2" descr="C:\Users\Melissa\Pictures\images.jpg"/>
          <p:cNvPicPr/>
          <p:nvPr/>
        </p:nvPicPr>
        <p:blipFill>
          <a:blip r:embed="rId1"/>
          <a:stretch/>
        </p:blipFill>
        <p:spPr>
          <a:xfrm>
            <a:off x="4876920" y="1600200"/>
            <a:ext cx="28191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S launches Cruise missi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gust 20, 1998 US launched cruise missiles that destroyed pharmaceutical facility in Khartoum which allegedly made chemical weap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 says the facility was financed by Osama Bin Lad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Picture 2" descr="C:\Users\Melissa\Pictures\AZYODNBCA8T901WCAFR1MWECATQC5VRCA9VE6OGCAERTGJKCAIJ2W1YCAEQK7SXCAXYHSWSCAXNN369CA8628LHCAIAC0IKCANP382CCAOS1JM9CABNV29FCALLYXSCCAG0LT9OCA61WAPHCA35RVF5.jpg"/>
          <p:cNvPicPr/>
          <p:nvPr/>
        </p:nvPicPr>
        <p:blipFill>
          <a:blip r:embed="rId1"/>
          <a:stretch/>
        </p:blipFill>
        <p:spPr>
          <a:xfrm>
            <a:off x="5410080" y="1523880"/>
            <a:ext cx="2227320" cy="2000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Melissa\Pictures\AQ57E6ECA2B7OZACAGKFG0PCA0IJ1TBCA619M2DCAMJG2L4CABG68ITCAP07J1GCA3938QFCAFE6PNHCAHNVOZ0CARDU2D5CAP13HVBCANWVL56CAZI264RCATKKZ1KCA9FHAX4CAXWOBF7CAEKZ0FB.jpg"/>
          <p:cNvPicPr/>
          <p:nvPr/>
        </p:nvPicPr>
        <p:blipFill>
          <a:blip r:embed="rId2"/>
          <a:stretch/>
        </p:blipFill>
        <p:spPr>
          <a:xfrm>
            <a:off x="4648320" y="3565440"/>
            <a:ext cx="29718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48:51Z</dcterms:created>
  <dc:creator>Melissa</dc:creator>
  <dc:description/>
  <dc:language>en-US</dc:language>
  <cp:lastModifiedBy>Melissa</cp:lastModifiedBy>
  <dcterms:modified xsi:type="dcterms:W3CDTF">2008-11-10T01:28:50Z</dcterms:modified>
  <cp:revision>16</cp:revision>
  <dc:subject/>
  <dc:title>Sudan By : Scott Social Studies</dc:title>
</cp:coreProperties>
</file>